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9E3-1F21-4DCA-8FFE-CF516878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890-1A7A-47B7-8417-0785307C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F3A55-FC63-44AF-AB55-152B435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A3DC9-1DB1-4234-89F1-3516C17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2299-CD65-48F4-A12F-330530D0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F5902-A095-4A8A-8699-244EA79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3CC66-A9F3-4501-955A-BF2682C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DC8C-ABE3-4788-BA00-9A29D58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8C97F-7740-4065-A113-9F39A91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B661D-9441-4C7E-AB7B-507F7096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483A5-998A-493A-B8DC-05F41AD7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51A31-AF77-410A-BF39-FD1A79A8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72E-9668-417B-85AA-B9E11E30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C4945-2CB6-4FDA-B725-7FC5108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00172-7FDB-43B9-8F7A-2BA9774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95D4F-0C40-45FC-ACCA-65D8DC9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397FB-C1CE-4B40-94A4-C2270A7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AB9FE-A361-45A1-BAE8-9A3C1D1B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BEB03-44D7-4E28-9DFF-7810FDB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266D5-6FE5-44A3-87C1-A87C70D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09BBC-C0A9-4BF5-901D-243EAB1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0C6B2-48B4-4694-805D-5AC13374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D2EF5-C065-4ADD-9E90-ED4BDF6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701-26DD-473D-9FBF-EF0BAC42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AE0E8-5D10-4A41-9B46-30438716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84AC5-2DD3-44DA-9401-C5C2FCD8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16458-E545-49E5-9BF4-83297DB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CD11-3533-41A0-971C-B20BE03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6320C-A115-4743-A2CB-F6219AF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B5A0F-DB12-4232-AD09-3B497B8E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05BD7-D489-4ABE-9C53-18CC331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E2FB-1339-4B6C-A3CE-32BCEA4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F952F-BA0E-4146-9CB9-E65EC61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7D01-2CEC-4696-9B1A-247DB59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C7E1-BBC4-4015-8A49-8AEEA22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B007A-C799-4EF4-8989-A7E85F6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85823-2915-4411-A5E4-919A6B9D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61DF3-69EA-432A-BB0F-14239EBA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8D401-7A78-41F8-85F5-66410038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225FC-51E4-4315-B009-1C6CADC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37968-7B8C-4611-98E3-5763056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A3E09-737C-4A8C-AE10-6E39B29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B6EBE-37B2-4C90-8CB7-0DE229F0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CB872-9369-4D79-930C-D4A4D7F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E2E37-D9F3-404C-A9C8-FAD049A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13D3-C203-4CC8-92B7-3EA4906B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24DF1-91A7-4D5C-A0BD-FC52135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F499B-0E18-473F-AA4A-3167B50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72619-CF2D-4B93-8B4A-240F986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242F0-4F74-49D7-A748-9C5BF02E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11E3D-FE8B-4ED4-8D2D-306D8764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69188-C592-487F-B0F8-9DC6336B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620ED-CEB7-454A-AACC-9B46A14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610AE-DC46-4E81-A23E-F5BFAB7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9A1C7-7FE3-44F9-8A6F-B41108F8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51A69-967D-4ABC-B842-44380FFE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B4C-FCA2-4228-B37F-9513012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02E3-5D1E-4415-88DD-DD4E467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DAA06-C724-403F-9172-5C3E624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A1E0B-BB33-4A20-A3E3-4C50336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FD705-63E7-4DED-8A37-DCB81A47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FE493-59A6-4E46-A0BF-993555A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D002-F0CC-4603-8E7F-A45E89D1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F14AD-C4D7-4A3F-B09A-C49CA73B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F3C1B-6503-4BA0-A1AD-E44D9F52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E3E0F-EDDB-435D-983F-0BFD679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D25A0-7DC9-414A-8038-340F960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EE64-AE34-4AC7-9150-7FFB3B71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405DD-D03C-43EB-99F8-1B963D1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3E74F-2CF4-4E3A-BBE8-DB4E5818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15C33-7C2D-463A-8613-6F4E0A49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3751D-E850-47E1-8B5A-7A068F0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4B1D1-CD53-42B0-BBA0-917E49F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78ADD-07FB-4549-97E0-D25DB6D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C0D02-3F25-4DB2-B663-02FB19E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D6583-7C84-4637-BFF0-A549B77B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BE3F9-E055-45EF-B9C7-68CAD418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2BEBD-4642-4447-A020-F68272DB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E53-3446-42F3-9875-5A07B7DA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4D444-3999-4C13-ACA1-B8B0824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8B3A2-8302-4199-BC20-A465EF5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F39E8-6D28-42BB-B1C9-3A29A4B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A7377-C17D-46AE-80D6-6EB4AB5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55BCE-1437-4123-BFCE-B0C2B3A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EC8CC-9209-4315-8C24-651F2EF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260FA-8B19-4807-9171-03A8BFA7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30E5-0640-4B7B-9B3E-62CDF2B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EFAA2-D112-48B2-BE2A-8736683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211B3-75E9-448F-A456-3C49700E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0253-8550-4513-A29F-4D332A3B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3D25E-F31A-4405-9931-028FCE6E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97CCF-850E-4D1F-8308-C999226B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E50FC-6718-4836-824F-5E57041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80F51-B815-419A-8DCC-F57FE45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B1256-F365-4D83-AD3C-76EC82BD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2E83E-8CAC-44F2-8BAE-FEC256DC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0ECD2-497F-4AC3-86D8-803FE52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3E39A-EA3D-4E7F-A8E0-FF84876B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EFD53-6FF6-4FCE-B5C8-5BD64AE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8C1FF-ED55-4300-B14D-09114AC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067-7600-499E-A614-6704966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9A4F4-9A76-4E93-8C2E-D55F241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4B59A-5067-4B9C-A1BC-404C9BE2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42EC3-DADC-4E86-A2BA-4405E385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F6830-5935-4D53-86FB-637C7AA5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2389C-EE10-49CB-BAB9-03A651CB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E4A2F-5B35-4FD6-94C6-E2A3185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D168E-CC47-4646-A85C-50145716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6290FE-4748-4C95-9B90-92AB2DD7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79EFE-7F5F-49D7-8B03-DBA8479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07E58-2A82-4B0C-9D35-57696F1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90B-33E4-40CE-B1E9-19EF0725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92C-6D60-431C-9519-25A10C5C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FDFFF-D435-4DE7-83F7-33FE463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7F960-0488-4F2C-B5B9-FE0D61B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73438-D7CD-4EC2-AECC-8B4879EF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E5B42-08EA-4BCB-A6F1-B033CD56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609E8-A644-4D50-BFC4-914885E5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30009-ACD7-4E27-85CE-F52D89A1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31A8C-C8BD-40C0-912A-B521D666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B683E-64A6-46D7-9E81-80AF4BDC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7307A3-DE3F-4E73-93DE-AEED9C8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21A8D-EE52-4875-B1E9-74511C2A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858E-6B88-44B8-A424-178B7B2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2B96E-9325-4237-9B7D-62BCB8A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07521-75B2-4CFB-A4E9-AE52913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26773-E517-4856-B062-71787A5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AB201-DF55-4B38-9F9E-B7FE216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CA174-8BBB-4EC5-A529-6E6FB98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D2A1E-4F7B-4704-87F2-E45A5212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CE536-FBCF-4A84-B2E2-6CD04856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C788E-B748-4CEB-A09E-B425ECE5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8B68F-4AD8-4032-B298-16EAF88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872B8-C5B4-405D-895A-5E27DE3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B0D-BE2F-4DAA-A208-A5B102CB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E9447-8AE7-4038-AE09-A77C26DF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77B14-603C-4807-B1C7-DC0A6D3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92694-C743-41BE-9535-1F99DA8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4E4A6-4CDC-4D90-AD8C-EC34C1B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BB054-C726-4FC3-AB2D-7D748C9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72446-5FAC-48B1-88FF-9902397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ABA35-3FB1-4917-9992-EDC73CD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87E55-29F9-4FE2-BFB4-1B9C0201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E1E68-3883-4EE1-A27F-5FC3EB93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C7469-8D8B-475C-9928-2176274E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7EC6-E0D9-4406-88E4-EDF47100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20B58-BDDC-4FD6-9BB5-F2BE132E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F36F7-6616-408B-A740-AA22465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73E39-95C7-4138-A09B-43368DC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BBE73-B07B-47C2-AC03-9EF0238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3A4B4-ABB8-4B47-AF03-93E6F221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3983C-6E19-48A3-9EAD-41DE374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C3AFD-E10E-4708-9DEB-CABA33D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46DD0-7E63-411A-8A16-24AC01D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B214A-55FA-4A29-A72A-971D2383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3A0D8-E50D-4F78-9D54-6D798410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ADD9-4028-4D97-BFA2-0DB15D02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EA059-5F1A-4084-8402-40C2F060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5176B-41F9-46EB-803A-5965E90E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66DCF-B8E1-4B94-A132-6558551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53557-309A-4A7E-9036-DFAAAA33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321AE-12AB-4EC2-9F4D-FE19B9C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EBED02-F07B-422C-A7D1-51436674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0B1CB-B954-4807-8BA5-3CC4BAC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1B134-89FE-4EB1-96AC-6EE70BD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7AE1D-B867-4693-A91F-3538C0FA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E6485-97BB-416E-9913-368BBB0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1A3B-7C51-45F2-A7EF-661794B8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1B069-C3C6-487B-82C5-3450A89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AACE5-A3D2-4984-B253-848CA0D6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D52364-6BF7-41E9-A4BA-DBCF2825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6885-4EAA-43DF-94B1-E8A9E969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56D0-E6E3-4A94-902E-A30DE00D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D99F-579A-4D61-9001-478357DE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DC65-FF72-4645-8838-0282D469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F2E-F49B-4C13-B304-BBF4F7DF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B077-7D20-495D-A132-1B5F7ED1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A24B-28AC-4252-8CF3-C8EC8AD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33A9-4A82-4FBD-80ED-C4E759D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89B2-2D0B-4239-8AE9-5204115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2E67-F864-49F5-8FC6-9A22E842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E6E0-E4B1-4584-BEAE-FA1134BE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3986-5E1B-46CF-9218-EB3B20A7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3EA7-1E56-48B1-8584-116A6C43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F440-F6E2-42EC-A357-8A11065B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072C-027D-45E8-861C-6311AD8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CBE-0C5D-422F-B5B8-766F9D06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AB42-4C97-4658-9784-3390D0B5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3AEC-2E5A-4B1A-B934-31F3B712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466D-C713-4312-ADAF-860DB42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E65F-82A8-4B05-8BC6-6D8070D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34C0-E47C-4E5A-A066-A24AA7B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4104-A5D7-42AE-98CB-6B2F77B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7B1B-434C-4FA3-9B41-3DA548F5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F944-AD43-4208-B219-BD2D2173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8E70-6A7A-43FB-B094-9A0861C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AE5B-FB75-4AF1-A0AA-9CEA0B5D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409-4901-4B38-AFB4-08E1A63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3315-95C5-4694-8D92-151522A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9B0F-93F3-459B-957C-C76929AE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821A-86EB-4D74-AEBC-A46B3A0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6FDC-18B5-418B-85AB-9F23B639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2B6F-ECE0-4582-9937-0C26DC5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F3C0-2D6B-4DA0-AC20-3F78460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39C4-C403-46A9-B54C-41FB187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103D-E7E3-4D7F-9C26-92F0116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82A7-5857-41C5-9ED3-24486C02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E61A7-C345-4B13-B3AB-838660F5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819-7A8B-469E-B092-88C1437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86A3-687E-4D58-BFCE-C6EB1877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31918-7208-4374-9D5B-3FC58CE3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68DB-E187-4154-9DCE-426F1C0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FF78-4B0B-4A37-A315-F5B5119C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7637-5E02-4966-ADA4-9DAE3D3D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86AE-23C2-4793-9FA1-61D3248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AC09-C351-454C-A858-003B819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4A7E-D516-430F-9776-6D44623E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975E2-E5A3-4FC2-BAE7-78B33FFF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2AB94-A81B-4878-8D6C-C797D07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4C1-7E6B-443C-84AB-93D2396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4C557-02C8-4BE8-9C8F-44AFB52B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F4C9-829C-47A8-981B-CBF3DDD7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7032-BE1E-479F-BBF5-F374E121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152B-9A4E-425C-8EE2-088457A7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2F33-C942-4AB5-980A-32516151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EC169-0B05-4EB5-9679-75B5D8FA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5DB2-422E-4A2C-8B3E-4F1ACC7A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01F36-7A44-4CC0-B355-9476DFC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9879-4C97-40DF-9643-4100906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E73D-F686-4FB8-9921-B993B2CA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0A2-4E26-4697-8020-CE91C95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3162-6617-4DB8-9053-D09D44FD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4FE5-5F37-45CA-B560-4CA86009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5CAA-F73B-4379-8389-CE7BA03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FED6-BEA9-41F0-A966-C2D5CADF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8C53-866C-4C1C-A5C0-2DEB9AF7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D1F22-F469-485C-8EA0-6BE95FE3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60D3-CBA6-467D-97F2-F3E04F7A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A7C63-351C-4ACB-B931-9E3EB1B7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07F73-DB73-4FB7-B5C6-335AFC5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CD21F-931B-454E-90B9-9D8D1580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CDD-10B6-4F59-9F31-6BEE8A4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7E9EF-4CCF-44B4-B8EB-5826708B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2D08-7CB4-46D2-815C-9BDC66B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BDBB2-0A3B-47E5-BD7F-A7CF0C31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8DF7-62EF-4508-B500-1AE0DD1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99C9-6B76-4DD4-8220-F14FAA8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47BF-8D61-4AD8-AC73-C99FB3B4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08479-50CA-4A94-9176-E257E3C2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88F6C-BFBF-47A3-8962-EC9471A4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A778-ABF3-4B30-964A-3F2892F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105B-3927-4232-945E-32C2CFE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1F9-9CB3-4BDB-93A6-CAFBC72B7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232A-87CB-42D5-BBD0-41A5DFA23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162-CE94-4214-91FE-F17662D07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5CBB-1C66-4D08-A504-F934E8AC9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BE5-9275-4540-ABD2-6F5AD51C80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B88-B719-4E9C-B654-DEE434AEB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C25-8701-4290-B0B8-057D622DB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758-C82D-4B21-868F-A47597EFC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9B59-944B-4A4F-A19A-0C130C3A8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7B8A-BE3F-4920-B410-7840F0D8E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6E6B-6946-4675-87B1-F59284061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C01B-E177-4452-975D-927FA0E92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0C2-ADC9-4C9C-8925-8FABFE5E8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E52-6AEF-4349-A0BE-42CEAB712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7301-2E5A-48AC-AF4D-1A8C2945D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C94D-B772-4D82-8748-FB8D15DC9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E2D-45B9-4298-BB2E-BFF6DF1A6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09B-F02B-448B-9D0A-84AF18D41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4320-4CC5-42C5-9BF6-20F4723A8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BE9-9AC5-4979-B6DC-E3F7C93D7E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F6D-0649-47B3-987F-67CBDB318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B177-2464-4952-9322-468FAC7DD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EDC-6727-40D1-81E0-209E5EFAD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F22-F8CD-4B15-8133-332F56701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BB2B-B273-44E4-923D-467CA1A12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1FA-E52B-4C11-B8D9-0C391D7DE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D270-0F5B-4957-B0B1-D942297DF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EB2-28AF-4AF1-A004-52135EC9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5DA6-0CF1-4252-B282-D08380FD8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F28-A316-4A34-95F4-9C81B307A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7A65-1D4F-4A21-AB7B-520643F30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29E-E89A-4DFB-B74A-239C47E08B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1241-3CB6-4CEF-9AE6-BF2D76C1C6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5CE9-0A07-4573-8EF3-8E2D97CE0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7469-6668-4E2A-9061-804360747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80E-0B54-43A5-B07F-C0A9EDB0A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8D2-A9EC-4915-AF53-93EC9AC6E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D44-5A7B-4451-931A-F1808F784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C539-D9B6-49B7-9921-CB46AE388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338-0334-4706-A2BB-04F27D84D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58720" y="2470320"/>
            <a:ext cx="8028000" cy="74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77760" y="3936960"/>
            <a:ext cx="89899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52280" y="1590840"/>
            <a:ext cx="8839440" cy="3676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3851280" y="4781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8101080" y="47973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19160" y="1324080"/>
            <a:ext cx="8904240" cy="4209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21477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87280" y="2867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87280" y="3587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187280" y="4365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87280" y="50562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01480" y="131760"/>
            <a:ext cx="7628040" cy="6432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31640" cy="312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5537160" y="3673440"/>
            <a:ext cx="432000" cy="312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4067280" y="5675400"/>
            <a:ext cx="431640" cy="31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8:4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